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252-D5FC-4BC6-8C1B-0DF2DAED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674-656C-4973-BA90-EC24B7C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296-C675-4CA3-933F-5993EC4D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91D-F8DF-433B-A2AE-44EE0F8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E1DD-8736-458E-BFC4-ECC8C3AC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79D-9351-469C-9555-117DF5A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50B-C375-4E56-ACD0-92F4627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B657-F447-4C07-BBFE-5D8D649F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65D4-C165-4649-A444-48ECB6B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115-9FAA-4FCD-89E3-684BD960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5BC2-7F2B-4C43-860B-D3E77E5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E9D-5A01-4916-BC91-AC288E5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D6E-0405-4A3C-8FE6-B6A29CE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FEC-A330-48A5-9B31-D389265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154-09A6-4E5E-BFD9-C7F647EE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C1D-4953-4857-933E-8EA15AA5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856-CACB-4233-9032-0AACD0E8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2E7-419C-429F-9360-B36D881A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AEE-1A1E-4DAF-898A-277205E3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3AE-0F7C-4588-A868-E7092666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3C8-621D-4806-945E-7993D8EF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097-C4AB-4B35-8479-BCE0121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A47-BF29-4040-A924-AC3EB4C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11C-B9CB-4528-ACA6-F9562E4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0871-1D31-452D-9EC2-5A9513BF54B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FC12-1284-4231-BFD9-1272D792933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42;&#1080;&#1076;_&#1089;&#1087;&#1086;&#1088;&#1090;&#1072;#.D0.98.D0.B3.D1.80.D0.BE.D0.B2.D1.8B.D0.B5_.D0.B2.D0.B8.D0.B4.D1.8B_.D1.81.D0.BF.D0.BE.D1.80.D1.82.D0.B0#.D0.98.D0.B3.D1.80.D0.BE.D0.B2.D1.8B.D0.B5_.D0.B2.D0.B8.D0.B4.D1.8B_.D1.81.D0.BF.D0.BE.D1.80.D1.82.D0.B0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42;&#1080;&#1076;_&#1089;&#1087;&#1086;&#1088;&#1090;&#1072;#.D0.98.D0.BD.D0.B4.D0.B8.D0.B2.D0.B8.D0.B4.D1.83.D0.B0.D0.BB.D1.8C.D0.BD.D1.8B.D0.B5#.D0.98.D0.BD.D0.B4.D0.B8.D0.B2.D0.B8.D0.B4.D1.83.D0.B0.D0.BB.D1.8C.D0.BD.D1.8B.D0.B5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2;&#1080;&#1076;_&#1089;&#1087;&#1086;&#1088;&#1090;&#1072;#.D0.9A.D0.BE.D0.BC.D0.B0.D0.BD.D0.B4.D0.BD.D1.8B.D0.B5#.D0.9A.D0.BE.D0.BC.D0.B0.D0.BD.D0.B4.D0.BD.D1.8B.D0.B5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ru.wikipedia.org/wiki/&#1042;&#1080;&#1076;_&#1089;&#1087;&#1086;&#1088;&#1090;&#1072;#.D0.A6.D0.B8.D0.BA.D0.BB.D0.B8.D1.87.D0.B5.D1.81.D0.BA.D0.B8.D0.B5_.D0.B2.D0.B8.D0.B4.D1.8B_.D1.81.D0.BF.D0.BE.D1.80.D1.82.D0.B0#.D0.A6.D0.B8.D0.BA.D0.BB.D0.B8.D1.87.D0.B5.D1.81.D0.BA.D0.B8.D0.B5_.D0.B2.D0.B8.D0.B4.D1.8B_.D1.81.D0.BF.D0.BE.D1.80.D1.82.D0.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ru.wikipedia.org/wiki/&#1042;&#1080;&#1076;_&#1089;&#1087;&#1086;&#1088;&#1090;&#1072;#.D0.A1.D0.BF.D0.BE.D1.80.D1.82.D0.B8.D0.B2.D0.BD.D1.8B.D0.B5_.D0.B5.D0.B4.D0.B8.D0.BD.D0.BE.D0.B1.D0.BE.D1.80.D1.81.D1.82.D0.B2.D0.B0#.D0.A1.D0.BF.D0.BE.D1.80.D1.82.D0.B8.D0.B2.D0.BD.D1.8B.D0.B5_.D0.B5.D0.B4.D0.B8.D0.BD.D0.BE.D0.B1.D0.BE.D1.80.D1.81.D1.82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ru.wikipedia.org/wiki/&#1042;&#1080;&#1076;_&#1089;&#1087;&#1086;&#1088;&#1090;&#1072;#.D0.91.D0.BE.D1.80.D1.8C.D0.B1.D0.B0#.D0.91.D0.BE.D1.80.D1.8C.D0.B1.D0.B0" TargetMode="External"/><Relationship Id="rId14" Type="http://schemas.openxmlformats.org/officeDocument/2006/relationships/image" Target="../media/image6.png"/><Relationship Id="rId15" Type="http://schemas.openxmlformats.org/officeDocument/2006/relationships/hyperlink" Target="http://ru.wikipedia.org/wiki/&#1042;&#1080;&#1076;_&#1089;&#1087;&#1086;&#1088;&#1090;&#1072;#.D0.A1.D0.B8.D0.BB.D0.BE.D0.B2.D1.8B.D0.B5_.D0.B2.D0.B8.D0.B4.D1.8B_.D1.81.D0.BF.D0.BE.D1.80.D1.82.D0.B0#.D0.A1.D0.B8.D0.BB.D0.BE.D0.B2.D1.8B.D0.B5_.D0.B2.D0.B8.D0.B4.D1.8B_.D1.81.D0.BF.D0.BE.D1.80.D1.82.D0.B0" TargetMode="External"/><Relationship Id="rId16" Type="http://schemas.openxmlformats.org/officeDocument/2006/relationships/image" Target="../media/image6.png"/><Relationship Id="rId17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18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19" Type="http://schemas.openxmlformats.org/officeDocument/2006/relationships/hyperlink" Target="http://ru.wikipedia.org/wiki/&#1042;&#1080;&#1076;_&#1089;&#1087;&#1086;&#1088;&#1090;&#1072;#.D0.A1.D0.BB.D0.BE.D0.B6.D0.BD.D0.BE.D0.BA.D0.BE.D0.BE.D1.80.D0.B4.D0.B8.D0.BD.D0.B0.D1.86.D0.B8.D0.BE.D0.BD.D0.BD.D1.8B.D0.B5_.D0.B2.D0.B8.D0.B4.D1.8B_.D1.81.D0.BF.D0.BE.D1.80.D1.82.D0.B0#.D0.A1.D0.BB.D0.BE.D0.B6.D0.BD.D0.BE.D0.BA.D0.BE.D0.BE.D1.80.D0.B4" TargetMode="External"/><Relationship Id="rId20" Type="http://schemas.openxmlformats.org/officeDocument/2006/relationships/image" Target="../media/image6.png"/><Relationship Id="rId21" Type="http://schemas.openxmlformats.org/officeDocument/2006/relationships/hyperlink" Target="http://ru.wikipedia.org/wiki/&#1042;&#1080;&#1076;_&#1089;&#1087;&#1086;&#1088;&#1090;&#1072;#.D0.AD.D0.BA.D1.81.D1.82.D1.80.D0.B5.D0.BC.D0.B0.D0.BB.D1.8C.D0.BD.D1.8B.D0.B5_.D0.B2.D0.B8.D0.B4.D1.8B_.D1.81.D0.BF.D0.BE.D1.80.D1.82.D0.B0#.D0.AD.D0.BA.D1.81.D1.82.D1.80.D0.B5.D0.BC.D0.B0.D0.BB.D1.8C.D0.BD.D1.8B.D0.B5_.D0.B2.D0.B8.D0.B4.D1.8B_.D1.81.D0." TargetMode="External"/><Relationship Id="rId22" Type="http://schemas.openxmlformats.org/officeDocument/2006/relationships/image" Target="../media/image6.png"/><Relationship Id="rId23" Type="http://schemas.openxmlformats.org/officeDocument/2006/relationships/hyperlink" Target="http://ru.wikipedia.org/wiki/&#1042;&#1080;&#1076;_&#1089;&#1087;&#1086;&#1088;&#1090;&#1072;#.D0.A2.D0.B5.D1.85.D0.BD.D0.B8.D1.87.D0.B5.D1.81.D0.BA.D0.B8.D0.B5_.D0.B2.D0.B8.D0.B4.D1.8B_.D1.81.D0.BF.D0.BE.D1.80.D1.82.D0.B0#.D0.A2.D0.B5.D1.85.D0.BD.D0.B8.D1.87.D0.B5.D1.81.D0.BA.D0.B8.D0.B5_.D0.B2.D0.B8.D0.B4.D1.8B_.D1.81.D0.BF.D0.BE.D1.80.D1.82.D0." TargetMode="External"/><Relationship Id="rId24" Type="http://schemas.openxmlformats.org/officeDocument/2006/relationships/image" Target="../media/image6.png"/><Relationship Id="rId25" Type="http://schemas.openxmlformats.org/officeDocument/2006/relationships/hyperlink" Target="http://ru.wikipedia.org/wiki/&#1042;&#1080;&#1076;_&#1089;&#1087;&#1086;&#1088;&#1090;&#1072;#.D0.9F.D1.80.D0.B8.D0.BA.D0.BB.D0.B0.D0.B4.D0.BD.D1.8B.D0.B5_.D0.B2.D0.B8.D0.B4.D1.8B_.D1.81.D0.BF.D0.BE.D1.80.D1.82.D0.B0#.D0.9F.D1.80.D0.B8.D0.BA.D0.BB.D0.B0.D0.B4.D0.BD.D1.8B.D0.B5_.D0.B2.D0.B8.D0.B4.D1.8B_.D1.81.D0.BF.D0.BE.D1.80.D1.82.D0.B0" TargetMode="External"/><Relationship Id="rId26" Type="http://schemas.openxmlformats.org/officeDocument/2006/relationships/image" Target="../media/image6.png"/><Relationship Id="rId27" Type="http://schemas.openxmlformats.org/officeDocument/2006/relationships/hyperlink" Target="http://ru.wikipedia.org/wiki/&#1042;&#1080;&#1076;_&#1089;&#1087;&#1086;&#1088;&#1090;&#1072;#.D0.90.D0.B2.D0.B8.D0.B0.D1.86.D0.B8.D0.BE.D0.BD.D0.BD.D1.8B.D0.B5_.D0.B2.D0.B8.D0.B4.D1.8B_.D1.81.D0.BF.D0.BE.D1.80.D1.82.D0.B0#.D0.90.D0.B2.D0.B8.D0.B0.D1.86.D0.B8.D0.BE.D0.BD.D0.BD.D1.8B.D0.B5_.D0.B2.D0.B8.D0.B4.D1.8B_.D1.81.D0.BF.D0.BE.D1.80.D1.82.D0." TargetMode="External"/><Relationship Id="rId28" Type="http://schemas.openxmlformats.org/officeDocument/2006/relationships/image" Target="../media/image6.png"/><Relationship Id="rId29" Type="http://schemas.openxmlformats.org/officeDocument/2006/relationships/hyperlink" Target="http://ru.wikipedia.org/wiki/&#1042;&#1080;&#1076;_&#1089;&#1087;&#1086;&#1088;&#1090;&#1072;#.D0.9A.D0.B8.D0.B1.D0.B5.D1.80.D1.81.D0.BF.D0.BE.D1.80.D1.82#.D0.9A.D0.B8.D0.B1.D0.B5.D1.80.D1.81.D0.BF.D0.BE.D1.80.D1.82" TargetMode="External"/><Relationship Id="rId30" Type="http://schemas.openxmlformats.org/officeDocument/2006/relationships/hyperlink" Target="http://ru.wikipedia.org/wiki/&#1042;&#1080;&#1076;_&#1089;&#1087;&#1086;&#1088;&#1090;&#1072;#.D0.9A.D0.B8.D0.B1.D0.B5.D1.80.D1.81.D0.BF.D0.BE.D1.80.D1.82#.D0.9A.D0.B8.D0.B1.D0.B5.D1.80.D1.81.D0.BF.D0.BE.D1.80.D1.82" TargetMode="External"/><Relationship Id="rId3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01760" y="115920"/>
            <a:ext cx="8961480" cy="50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удентка 231 г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тоцкая Ан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подаватель: Кущ Татьяна Анатолье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И еще несколько убедительных аргументов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ему же все-таки нужно заниматься спортом? И, подчеркиваю, в том числе — профессиональным, большим спортом. Если коротко: это лучший жизненный тренинг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м профессиональный, большой спорт лучше любительского? Нет, не гипотетическими славой и деньгами в первую очередь. Большой спорт отличается мерой ответственности. Здесь вырабатывается привычка трудиться на совесть. А еще — открывать в себе новые возможности, познавать ранее неведомые глубины психологии. Здесь формируется умение проходить путь до конца и ставить в конце пути эффектную точку. В принципе этому можно научиться и без спорта — к зрелому возрасту. Но спортсмены, как правило, владеют этим искусством смолоду — и потому имеют преимущество перед обычными люд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Спортсмены легче обычных людей побеждают болезни — это у них в крови. Неспортивный человек беззащитен перед болезнями и старением. Его «инструменты» — лекарства и очереди в поликлинику. Спортсмен, даже бывший — вооружен и подготовлен. Он сумеет вовремя мобилизовать дополнительные ресурсы организма, если понадобится.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А еще спорт — это общение, связи и знакомства в конце концов. 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6360" y="103320"/>
            <a:ext cx="8656920" cy="1377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воды заключаются в индивидуальном мнении учащихся шк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знать как влияет спорт на здоровье челове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учить литературу, касающееся темы спор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анализировать все аспекты этой те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вести  « - » и « + 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йти к собственному вывод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c07b9"/>
                </a:solidFill>
                <a:latin typeface="Arial"/>
              </a:rPr>
              <a:t>Что такое спорт?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нгл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" sz="2800" spc="-1" strike="noStrike">
                <a:solidFill>
                  <a:srgbClr val="ff0000"/>
                </a:solidFill>
                <a:latin typeface="Times New Roman"/>
              </a:rPr>
              <a:t>sport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, сокращение от первоначального англ. </a:t>
            </a:r>
            <a:r>
              <a:rPr b="0" i="1" lang="en" sz="2800" spc="-1" strike="noStrike">
                <a:solidFill>
                  <a:srgbClr val="ff0000"/>
                </a:solidFill>
                <a:latin typeface="Times New Roman"/>
              </a:rPr>
              <a:t>disport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— «игра», «развлечение») — организованная по определенным правилам деятельность людей, состоящая в сопоставлении их физических и интеллектуальных способностей, а также подготовка к этой деятельности и межличностные отношения, возникающие в её процесс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нтересен ли спорт нашему поколению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Виды спорта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1 Игров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1.1 Индивидуальны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1.2 Командны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9"/>
              </a:rPr>
              <a:t>2 Циклически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1"/>
              </a:rPr>
              <a:t>3 Спортивные единоборств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3.1 Борьб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5"/>
              </a:rPr>
              <a:t>4 Силов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7"/>
              </a:rPr>
              <a:t>5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8"/>
              </a:rPr>
              <a:t>Сложнокоординационные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9"/>
              </a:rPr>
              <a:t>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1"/>
              </a:rPr>
              <a:t>6 Экстремаль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3"/>
              </a:rPr>
              <a:t>7 Технически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5"/>
              </a:rPr>
              <a:t>8 Приклад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7"/>
              </a:rPr>
              <a:t>9 Авиационные виды спорт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9"/>
              </a:rPr>
              <a:t>10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0"/>
              </a:rPr>
              <a:t>Киберспор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Текст 12" descr="Чемпионы города 1997г."/>
          <p:cNvPicPr/>
          <p:nvPr/>
        </p:nvPicPr>
        <p:blipFill>
          <a:blip r:embed="rId2"/>
          <a:stretch/>
        </p:blipFill>
        <p:spPr>
          <a:xfrm rot="21199800">
            <a:off x="606240" y="1275840"/>
            <a:ext cx="8208720" cy="488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 rot="21035400">
            <a:off x="684000" y="549000"/>
            <a:ext cx="8064360" cy="459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629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ужно ли заниматься спор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99"/>
                </a:solidFill>
                <a:latin typeface="Arial"/>
              </a:rPr>
              <a:t>Различные типы спорта, их социальные функции и принципы воспитательной работы со спортсменами с точки зрения деятельности (предмет, мотивация и форма активности)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189000"/>
          <a:ext cx="9001080" cy="6594480"/>
        </p:xfrm>
        <a:graphic>
          <a:graphicData uri="http://schemas.openxmlformats.org/drawingml/2006/table">
            <a:tbl>
              <a:tblPr/>
              <a:tblGrid>
                <a:gridCol w="1008000"/>
                <a:gridCol w="1562040"/>
                <a:gridCol w="1319400"/>
                <a:gridCol w="1439640"/>
                <a:gridCol w="1944720"/>
                <a:gridCol w="1727280"/>
              </a:tblGrid>
              <a:tr h="39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 спорт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ущие социальные функци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и теории деятельно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ущая мотивация спортсменов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активно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одный (массовый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ьная (улуч шение фенотипа, под готовка к жизни, оздо ровление, развлечение и отдых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физические и интеллектуальные воз можности спортсмен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годня быть лучше, чем вчера, ради успеха в учебе, труде, защите Отечества и т.п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в структуре другой деятельности (учеба, труд, защита Отечества, спорт вы сших результатов и т.п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ия потенциала (важно участие в спор тивной борьбе, а не результат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 высших резуль та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йски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творческая (индикатор генофонда конкретной страны,альтернатива войне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й результат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иться высшего спортивного результата ради Родины и мира на земле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творческая дея тельност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енной самореализации (честно до бейся высшего резуль тата ради Родины и дела мира на земле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ерчески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релищная (катализатор экономик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й результат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иться высшего спортивного результата для получения максимального дохо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по предоставлению зрелищных услу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й самореализации (сделай все, чтобы платили больше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27:08Z</dcterms:created>
  <dc:creator>Шура</dc:creator>
  <dc:description/>
  <dc:language>en-US</dc:language>
  <cp:lastModifiedBy>07106</cp:lastModifiedBy>
  <dcterms:modified xsi:type="dcterms:W3CDTF">2009-10-19T07:25:43Z</dcterms:modified>
  <cp:revision>7</cp:revision>
  <dc:subject/>
  <dc:title>Проект на тему: Спорт помогает или вредит здоровью человека.</dc:title>
</cp:coreProperties>
</file>